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63909-729D-41BB-A0A2-D04ECA3FF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CC624-A410-471B-866D-A46120973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97B6C-ACEE-4EAE-A72A-3660FC335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C559F-AEF9-478F-A60C-8EF467D16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20162-0258-4999-A226-91D51CB04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300A3-B484-429E-AD21-AAE37CAC0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6860B-E806-4A77-9B7A-09F9BDC30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83708-FE2E-4309-B88D-99D3A863D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ABF16-B8DD-4444-BF50-64BDEC38D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1BB1D-F084-4F81-8BB2-412121B33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3BFBE-DE96-4A1B-9F8A-C9B2658C9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9A012-F9F8-4A88-9F20-1F5E47E14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DC711-4ABD-45E3-A2F7-59FD7F5B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765E2-B83F-45B1-93BB-1A9B26E7C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90276-6960-41B0-9494-CEF791410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0D691-B2BF-4701-A905-0C029E88B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BE202-47D9-42F7-987E-770991733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95B03-9C65-436F-9AAA-C30058020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2029C-04B6-4012-AF15-A1CCBD532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4E589-A095-49BF-930F-A9883E45F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ED9D7-22A7-4071-AA31-9AF736884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ACB09-DB9E-4024-9725-E4ABF7A6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C07EB-FEB5-4DF5-B6D8-05E4CDDD9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D1329-6964-4C4A-AAE8-49A250CF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D0CDE-D3E1-4A8B-889A-2593D594C5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9B70D-08F6-4E36-8553-F9600B7569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Acids and Ba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51CBE-EC7D-40C5-9D31-CA5A6ED04DC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228600" y="304920"/>
            <a:ext cx="8534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pH R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0" y="1676520"/>
            <a:ext cx="91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0   1   2   3  4  5   6    7  8  9  10  11  12  13  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eut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[H</a:t>
            </a:r>
            <a:r>
              <a:rPr b="1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] 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&gt; [OH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-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]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1" lang="ar-SA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[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] = [O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]    </a:t>
            </a:r>
            <a:r>
              <a:rPr b="1" lang="en-US" sz="2800" spc="-1" strike="noStrike">
                <a:solidFill>
                  <a:srgbClr val="00007d"/>
                </a:solidFill>
                <a:latin typeface="Comic Sans MS"/>
                <a:ea typeface="Times New Roman"/>
              </a:rPr>
              <a:t>[OH</a:t>
            </a:r>
            <a:r>
              <a:rPr b="1" lang="en-US" sz="2800" spc="-1" strike="noStrike" baseline="30000">
                <a:solidFill>
                  <a:srgbClr val="00007d"/>
                </a:solidFill>
                <a:latin typeface="Comic Sans MS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00007d"/>
                </a:solidFill>
                <a:latin typeface="Comic Sans MS"/>
                <a:ea typeface="Times New Roman"/>
              </a:rPr>
              <a:t>]&gt;[H</a:t>
            </a:r>
            <a:r>
              <a:rPr b="1" lang="en-US" sz="2800" spc="-1" strike="noStrike" baseline="30000">
                <a:solidFill>
                  <a:srgbClr val="00007d"/>
                </a:solidFill>
                <a:latin typeface="Comic Sans MS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00007d"/>
                </a:solidFill>
                <a:latin typeface="Comic Sans MS"/>
                <a:ea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4"/>
          <p:cNvSpPr/>
          <p:nvPr/>
        </p:nvSpPr>
        <p:spPr>
          <a:xfrm>
            <a:off x="34920" y="2637000"/>
            <a:ext cx="4495680" cy="1371600"/>
          </a:xfrm>
          <a:prstGeom prst="leftArrow">
            <a:avLst>
              <a:gd name="adj1" fmla="val 50000"/>
              <a:gd name="adj2" fmla="val 8194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5"/>
          <p:cNvSpPr/>
          <p:nvPr/>
        </p:nvSpPr>
        <p:spPr>
          <a:xfrm>
            <a:off x="4530600" y="2637000"/>
            <a:ext cx="4267440" cy="1371600"/>
          </a:xfrm>
          <a:prstGeom prst="rightArrow">
            <a:avLst>
              <a:gd name="adj1" fmla="val 50000"/>
              <a:gd name="adj2" fmla="val 89709"/>
            </a:avLst>
          </a:prstGeom>
          <a:solidFill>
            <a:srgbClr val="00b0f0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Bas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1"/>
          <p:cNvSpPr/>
          <p:nvPr/>
        </p:nvSpPr>
        <p:spPr>
          <a:xfrm>
            <a:off x="3562560" y="5181480"/>
            <a:ext cx="20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H = pOH =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6914160" y="5181480"/>
            <a:ext cx="111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  <a:ea typeface="Times New Roman"/>
              </a:rPr>
              <a:t>pH &gt;</a:t>
            </a:r>
            <a:r>
              <a:rPr b="0" lang="ar-SA" sz="2400" spc="-1" strike="noStrike">
                <a:solidFill>
                  <a:srgbClr val="00007d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3"/>
          <p:cNvSpPr/>
          <p:nvPr/>
        </p:nvSpPr>
        <p:spPr>
          <a:xfrm>
            <a:off x="1402920" y="5157720"/>
            <a:ext cx="109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pH &lt;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Straight Arrow Connector 15"/>
          <p:cNvCxnSpPr/>
          <p:nvPr/>
        </p:nvCxnSpPr>
        <p:spPr>
          <a:xfrm flipH="1" flipV="1">
            <a:off x="1710720" y="3855240"/>
            <a:ext cx="1981800" cy="2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47" name="Straight Arrow Connector 17"/>
          <p:cNvCxnSpPr/>
          <p:nvPr/>
        </p:nvCxnSpPr>
        <p:spPr>
          <a:xfrm>
            <a:off x="4987800" y="3855600"/>
            <a:ext cx="1905840" cy="2520"/>
          </a:xfrm>
          <a:prstGeom prst="straightConnector1">
            <a:avLst/>
          </a:prstGeom>
          <a:ln w="3816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148" name="Rectangle 18"/>
          <p:cNvSpPr/>
          <p:nvPr/>
        </p:nvSpPr>
        <p:spPr>
          <a:xfrm>
            <a:off x="1375560" y="3932280"/>
            <a:ext cx="22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Increase the acid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9"/>
          <p:cNvSpPr/>
          <p:nvPr/>
        </p:nvSpPr>
        <p:spPr>
          <a:xfrm>
            <a:off x="5028480" y="3932280"/>
            <a:ext cx="23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Comic Sans MS"/>
              </a:rPr>
              <a:t>Increase the basis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98560" y="1265400"/>
            <a:ext cx="6842160" cy="581400"/>
          </a:xfrm>
          <a:prstGeom prst="rect">
            <a:avLst/>
          </a:prstGeom>
          <a:solidFill>
            <a:srgbClr val="ffcc99"/>
          </a:solidFill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H is inversely proportional to [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19DB7-7648-483D-9034-3AD01460878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23640" y="406440"/>
            <a:ext cx="8280360" cy="15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73600" indent="-191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Example 15.3 p66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3600" indent="-191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he [H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] = 3.2 x 10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–4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M. The [H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]=1.0 x 10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–3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3600" indent="-191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What is the pH in the two occa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3600" indent="-191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3600" indent="-191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3600" indent="-191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1916280"/>
            <a:ext cx="820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1928880"/>
            <a:ext cx="82803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US: pH is inversely proportional to [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395280" y="2508120"/>
                <a:ext cx="8209080" cy="15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24F97-A0EF-4321-ACC7-B4376FFBD80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23640" y="333360"/>
            <a:ext cx="83516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47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Example 15.4 p66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3880" indent="-247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he pH = 4.82 , What is the [H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] of the 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3880" indent="-247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3880" indent="-2476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1989000"/>
            <a:ext cx="82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5280" y="1994040"/>
            <a:ext cx="8280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539640" y="2565360"/>
                <a:ext cx="5761080" cy="24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</m:e>
                      <m:e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H</m:t>
                            </m:r>
                          </m:sup>
                        </m:sSup>
                      </m:e>
                      <m:e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3348000" y="5229360"/>
            <a:ext cx="5470560" cy="147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a50021"/>
                </a:solidFill>
                <a:uFillTx/>
                <a:latin typeface="Comic Sans MS"/>
              </a:rPr>
              <a:t>In the calculat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Press SHEFT + log button + (-ve ) value (= 4.82) + equal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A2BAB-6DEC-4BE9-A74A-A4E1F739ED7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24000" y="333000"/>
            <a:ext cx="843912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Example 15.5 p66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he [OH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] = 2.9 x 10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–4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M. What is the pH of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NaOH solu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5280" y="1989000"/>
            <a:ext cx="820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68360" y="2565360"/>
                <a:ext cx="7488360" cy="188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OH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O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pOH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pOH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395280" y="1994040"/>
            <a:ext cx="828036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042920" y="4653000"/>
                <a:ext cx="6012000" cy="21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</m:e>
                      <m:e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[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HO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  <m:r>
                              <m:t xml:space="preserve">]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9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7093080" y="6021360"/>
            <a:ext cx="1871640" cy="6426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H = 10.46 &gt; 7 BASIC (NaO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5348F-F458-493D-A947-3935C16B9CD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324000" y="1368360"/>
                <a:ext cx="8569080" cy="33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idic Solution  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asic Solution</m:t>
                            </m:r>
                          </m:e>
                        </m:ba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↓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                  </m:t>
                        </m:r>
                        <m:r>
                          <m:t xml:space="preserve">↓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             X                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O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↓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                   </m:t>
                        </m:r>
                        <m:r>
                          <m:t xml:space="preserve">↓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</m:t>
                        </m:r>
                        <m:r>
                          <m:rPr>
                            <m:lit/>
                            <m:nor/>
                          </m:rPr>
                          <m:t xml:space="preserve">pOH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250920" y="76500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2A732-0D0A-4572-9069-EE9C5DDD7EF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411280" y="2492280"/>
            <a:ext cx="46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nd of Chapter 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255AD-CAB5-45BB-9560-C07058B1742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13372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pter 15</a:t>
            </a:r>
            <a:br>
              <a:rPr sz="44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5100" spc="-1" strike="noStrike">
                <a:solidFill>
                  <a:srgbClr val="00007d"/>
                </a:solidFill>
                <a:latin typeface="Comic Sans MS"/>
              </a:rPr>
              <a:t>Acids and Bases</a:t>
            </a: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</a:t>
            </a:r>
            <a:br>
              <a:rPr sz="36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ng Pages  </a:t>
            </a: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661-666</a:t>
            </a: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</a:t>
            </a:r>
            <a:br>
              <a:rPr sz="4400"/>
            </a:b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 702 </a:t>
            </a: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15.9, 15.13, 15.16, 15.18, 15.20, 15.22, 15.24, 15.26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D33B4-9601-4FA7-9070-F8F004849CB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-302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hapter 15 Acids and Bases :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6868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15.2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Acid-Base Properties of Wa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15.3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H-A Measure of Acid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49D6C-A876-4C66-874F-DE0B997DFCD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Content Placeholder 1"/>
          <p:cNvSpPr/>
          <p:nvPr/>
        </p:nvSpPr>
        <p:spPr>
          <a:xfrm>
            <a:off x="457200" y="981000"/>
            <a:ext cx="8229600" cy="49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09960" indent="-217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id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ubstance that produces hydrogen ions in water s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960" indent="-217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HCl (aq) → H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(aq) + Cl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‐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(aq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960" indent="-217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960" indent="-217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se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ubstance that produces hydroxide ions in water s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960" indent="-217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NaOH (aq) → Na</a:t>
            </a:r>
            <a:r>
              <a:rPr b="0" lang="en-US" sz="3200" spc="-1" strike="noStrike" baseline="30000">
                <a:solidFill>
                  <a:srgbClr val="0070c0"/>
                </a:solidFill>
                <a:latin typeface="Comic Sans MS"/>
                <a:ea typeface="Times New Roman"/>
              </a:rPr>
              <a:t>+</a:t>
            </a:r>
            <a:r>
              <a:rPr b="0" lang="en-US" sz="32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(aq) + OH</a:t>
            </a:r>
            <a:r>
              <a:rPr b="0" lang="en-US" sz="3200" spc="-1" strike="noStrike" baseline="30000">
                <a:solidFill>
                  <a:srgbClr val="0070c0"/>
                </a:solidFill>
                <a:latin typeface="Comic Sans MS"/>
                <a:ea typeface="Times New Roman"/>
              </a:rPr>
              <a:t>‐</a:t>
            </a:r>
            <a:r>
              <a:rPr b="0" lang="en-US" sz="32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(aq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960" indent="-217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960" indent="-217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 acid neutralizes a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960" indent="-217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H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(aq)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+ </a:t>
            </a:r>
            <a:r>
              <a:rPr b="0" lang="en-US" sz="32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OH</a:t>
            </a:r>
            <a:r>
              <a:rPr b="0" lang="en-US" sz="3200" spc="-1" strike="noStrike" baseline="30000">
                <a:solidFill>
                  <a:srgbClr val="0070c0"/>
                </a:solidFill>
                <a:latin typeface="Comic Sans MS"/>
                <a:ea typeface="Times New Roman"/>
              </a:rPr>
              <a:t>‐</a:t>
            </a:r>
            <a:r>
              <a:rPr b="0" lang="en-US" sz="32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(aq)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→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(ℓ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33984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Introduction: Acids and B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6C12F-49B2-4E71-A154-A71DCD6EEC8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052280"/>
            <a:ext cx="8229600" cy="53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5520" indent="-235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ter is unique solvent , it can act as acid or b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c"/>
                </a:solidFill>
                <a:latin typeface="Comic Sans MS"/>
                <a:ea typeface="Times New Roman"/>
              </a:rPr>
              <a:t>Autoionization of wa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equilibrium expression for this process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c"/>
                </a:solidFill>
                <a:latin typeface="Comic Sans MS"/>
                <a:ea typeface="Times New Roman"/>
              </a:rPr>
              <a:t>Ion-product consta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6c"/>
                </a:solidFill>
                <a:latin typeface="Comic Sans MS"/>
                <a:ea typeface="Times New Roman"/>
              </a:rPr>
              <a:t>for wate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</a:t>
            </a:r>
            <a:r>
              <a:rPr b="1" lang="en-US" sz="3200" spc="-1" strike="noStrike">
                <a:solidFill>
                  <a:srgbClr val="00007d"/>
                </a:solidFill>
                <a:latin typeface="Comic Sans MS"/>
                <a:ea typeface="Times New Roman"/>
              </a:rPr>
              <a:t>K</a:t>
            </a:r>
            <a:r>
              <a:rPr b="1" lang="en-US" sz="3200" spc="-1" strike="noStrike" baseline="-25000">
                <a:solidFill>
                  <a:srgbClr val="00007d"/>
                </a:solidFill>
                <a:latin typeface="Comic Sans MS"/>
                <a:ea typeface="Times New Roman"/>
              </a:rPr>
              <a:t>w</a:t>
            </a:r>
            <a:r>
              <a:rPr b="1" lang="en-US" sz="3200" spc="-1" strike="noStrike">
                <a:solidFill>
                  <a:srgbClr val="00007d"/>
                </a:solidFill>
                <a:latin typeface="Comic Sans MS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At 25 °C, K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w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= 1.0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10</a:t>
            </a:r>
            <a:r>
              <a:rPr b="1" lang="en-US" sz="32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−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5280" y="-27000"/>
            <a:ext cx="8748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15.2 The Acid-Base Properties of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574560" y="2095560"/>
                <a:ext cx="824544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↔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OH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987640" y="3860640"/>
                <a:ext cx="386568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OH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4500720" y="1628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Hydronium 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76720" y="19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06200" y="4365720"/>
            <a:ext cx="374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7d"/>
                </a:solidFill>
                <a:latin typeface="Comic Sans MS"/>
              </a:rPr>
              <a:t>ثابت الحاصل الايوني للما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411280" y="5335560"/>
                <a:ext cx="394524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OH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FB53E-5272-4BC5-B045-08EF26994F1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3"/>
          <p:cNvSpPr/>
          <p:nvPr/>
        </p:nvSpPr>
        <p:spPr>
          <a:xfrm>
            <a:off x="533520" y="981000"/>
            <a:ext cx="8381880" cy="57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0000"/>
                </a:solidFill>
                <a:uFillTx/>
                <a:latin typeface="Comic Sans MS"/>
                <a:ea typeface="Times New Roman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  <a:ea typeface="Times New Roman"/>
              </a:rPr>
              <a:t>In pure wat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 pure water [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] = [O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−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] (neutr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In acidic solu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0" lang="ar-SA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In basic solution</a:t>
            </a:r>
            <a:r>
              <a:rPr b="0" lang="ar-SA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042920" y="3357720"/>
                <a:ext cx="6624720" cy="75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HO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7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457200" y="-3024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Ion Product of 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611280" y="1690560"/>
                <a:ext cx="806436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HO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[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HO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5003640" y="4437000"/>
                <a:ext cx="29530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&gt;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HO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5003640" y="5516640"/>
                <a:ext cx="29530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&lt;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HO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7FA14-3575-4ACE-937B-1B8F0162DB9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0" y="488520"/>
            <a:ext cx="914400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Example 15.2 p663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Calculate the [H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] ions in ammonia , [OH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] =0.0025 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170028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9280" y="1844640"/>
            <a:ext cx="8964720" cy="47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[H</a:t>
            </a:r>
            <a:r>
              <a:rPr b="0" lang="en-US" sz="3600" spc="-1" strike="noStrike" baseline="30000">
                <a:solidFill>
                  <a:srgbClr val="a50021"/>
                </a:solidFill>
                <a:latin typeface="Comic Sans MS"/>
              </a:rPr>
              <a:t>+</a:t>
            </a: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] =  4 x10</a:t>
            </a:r>
            <a:r>
              <a:rPr b="0" lang="en-US" sz="3600" spc="-1" strike="noStrike" baseline="30000">
                <a:solidFill>
                  <a:srgbClr val="a50021"/>
                </a:solidFill>
                <a:latin typeface="Comic Sans MS"/>
              </a:rPr>
              <a:t>-12</a:t>
            </a: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;  [HO</a:t>
            </a:r>
            <a:r>
              <a:rPr b="0" lang="en-US" sz="3600" spc="-1" strike="noStrike" baseline="30000">
                <a:solidFill>
                  <a:srgbClr val="a50021"/>
                </a:solidFill>
                <a:latin typeface="Comic Sans MS"/>
              </a:rPr>
              <a:t>-</a:t>
            </a: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] =2.5 x 10</a:t>
            </a:r>
            <a:r>
              <a:rPr b="0" lang="en-US" sz="3600" spc="-1" strike="noStrike" baseline="30000">
                <a:solidFill>
                  <a:srgbClr val="a50021"/>
                </a:solidFill>
                <a:latin typeface="Comic Sans MS"/>
              </a:rPr>
              <a:t>-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[H</a:t>
            </a:r>
            <a:r>
              <a:rPr b="0" lang="en-US" sz="3600" spc="-1" strike="noStrike" baseline="30000">
                <a:solidFill>
                  <a:srgbClr val="a50021"/>
                </a:solidFill>
                <a:latin typeface="Comic Sans MS"/>
              </a:rPr>
              <a:t>+</a:t>
            </a: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] &lt; [HO</a:t>
            </a:r>
            <a:r>
              <a:rPr b="0" lang="en-US" sz="3600" spc="-1" strike="noStrike" baseline="30000">
                <a:solidFill>
                  <a:srgbClr val="a50021"/>
                </a:solidFill>
                <a:latin typeface="Comic Sans MS"/>
              </a:rPr>
              <a:t>-</a:t>
            </a: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] the solution is bas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395280" y="2492280"/>
                <a:ext cx="7848720" cy="22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O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</m:e>
                      <m:e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[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HO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  <m:r>
                              <m:t xml:space="preserve">]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25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BE0DB-A157-412F-A36A-857ABAE7BF3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79280" y="9907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H of a solution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negative logarithm of the hydrogen ion concen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 the same manne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 the same manne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5280" y="404640"/>
            <a:ext cx="835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15.3 pH-A Measure of Acid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116000" y="1916280"/>
                <a:ext cx="6191280" cy="15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</m:e>
                      <m:e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H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4140360" y="3716280"/>
                <a:ext cx="3382920" cy="13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OH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O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</m:e>
                      <m:e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O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OH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878120" y="5686560"/>
                <a:ext cx="485460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K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1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D663A-6266-4505-9C5B-64794225243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79280" y="9907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  <a:ea typeface="Times New Roman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In pure wat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5280" y="404640"/>
            <a:ext cx="835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15.3 pH-A Measure of Acid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042920" y="1700280"/>
                <a:ext cx="6513480" cy="298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O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</m:e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O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pOH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OH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75142-49B0-4C4F-BC6E-AD914CFA7C9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2-17T15:54:26Z</dcterms:modified>
  <cp:revision>1482</cp:revision>
  <dc:subject/>
  <dc:title>General Chemistry CHEM 110</dc:title>
</cp:coreProperties>
</file>